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6549-CB89-4820-B396-33530872F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38AD-0227-4C59-AE31-2671C509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FFC3-A2E0-493E-B286-ED85DA295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7927-CA9A-4279-9140-838CED860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B1B9-A959-4F05-AB95-566A99AE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C1F3-DF86-4F22-BACF-ADEDB3D6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E359-19D7-48B6-9BB8-C47CBB46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B94C-C7B8-49B5-81E8-E327F442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3929-3470-4F8C-A17C-96B361F7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6884-62BA-4DA2-BC68-D5417BA8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2251-E58F-4833-8206-BE348E6C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1010-6512-449E-B1B3-DAF0922B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C505-B01E-4F5E-BBAF-4CFDE8A56271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36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Sea Level Chang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au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ring the Ice Age large amounts of water were stored as ice and snow, causing the sea levels to fa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exposed areas to ero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the Ice Age, when the ice and snow melted, many coastal areas were flood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rises and falls in sea level have created landforms such as drowned coasts and raised beach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eatures Of Sea Level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aised Beach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used by pre-glacial erosion of a coastl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ring the Ice Age the sea levels fall leaving the old coastline high above the present sea lev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ce the end of the Ice Age sea levels have risen again, but not to their previous lev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aised beaches continue to be above the present sea level by quite a dist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eatures Of Sea Level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rowned Coa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a Level rise after the last Ice Age caused estuaries and inlets to be flood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occurred in South West England, drowning many river valleys around the coasts of Devon and Cornwall, and creating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ia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other, more northern areas, glacial valleys were drowned to creat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jo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0:21:19Z</dcterms:created>
  <dc:creator>Dell_02</dc:creator>
  <dc:description/>
  <dc:language>en-US</dc:language>
  <cp:lastModifiedBy>Dell_02</cp:lastModifiedBy>
  <dcterms:modified xsi:type="dcterms:W3CDTF">2011-01-27T00:24:22Z</dcterms:modified>
  <cp:revision>1</cp:revision>
  <dc:subject/>
  <dc:title>Sea Level Change</dc:title>
</cp:coreProperties>
</file>